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41DD-738C-4654-BD29-EFD5CE9C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8332-0F4F-4791-B814-9BAE106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D086-5235-4A7D-A5C5-F0742575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B161-3F88-4FDF-BD34-16714099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A3B9-77B9-4638-8C37-AEE6D650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828-B446-44D2-804E-9A6965C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2C2-8D0F-4F72-96D5-D23F2B40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907-6A15-4BBB-9D6E-F247B8C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637D-7B3E-4357-B0D5-A594236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831A-82F2-41A2-B913-D9016EE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2F1-FD7D-42B5-84FA-10B9596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FB85-1673-4496-A1BF-04FD82EF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57F-AF50-4B45-8279-0CCA0DF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BE3-64F4-4B29-8E22-F92546E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754B-F48C-4075-9DAA-3120022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9E2-0DBB-4C24-8CB7-9CD11884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550-2E97-4BF7-9968-678874CC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B1BA-7467-4158-AE63-C9352F2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30BC-EEF9-486D-8E04-2D6E79DE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222C-2DD4-4CB0-8C1A-1B22E70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B348-BFCC-4D2E-A926-E10A8C0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D831-D0E0-4E69-BC06-AFF75C1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19AF-F34F-4D9B-BCEC-94105FB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06C8-CA5D-44E7-9F61-AA24B299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15D4-E1BE-488A-8349-E9315125FE4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49E-CDDF-44FF-9FE2-7E4BB4E982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50264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6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 Отче наш във небес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слушай ни тез словеса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, нека името Тво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ред осветено да е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7396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нас Си скиптъра прос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царството Си ускор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воята воля тук да 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вършвана, както в небе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7920" y="1667880"/>
            <a:ext cx="9187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ай ни днес насъщний хляб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сти ни всеки грях към Теб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А нека ние да присти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рага наш неумолим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47560" y="1667880"/>
            <a:ext cx="771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изкушения ни паз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губители враз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И дръж ни вечно настра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примките на сатан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28400" y="1667880"/>
            <a:ext cx="7954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Твои, Госпо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 сила, слава, почес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д всички Ти Си Цар еди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ще владееш навек! Ами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39:14Z</dcterms:modified>
  <cp:revision>28</cp:revision>
  <dc:subject/>
  <dc:title>Slide 1</dc:title>
</cp:coreProperties>
</file>